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dt" idx="111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 type="ftr" idx="112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 type="sldNum" idx="113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D735-86CF-40BE-A03E-689E21AE6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6765-D0FD-458B-A89D-19ACD8742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7382-676D-4632-84DD-28EEB7BF3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473-EA62-4C76-97B4-7FA3DCFB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90F8-81BC-4C02-ABF8-E29CAC5D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D35B0-8308-4014-91C6-C418FB90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1EBDA-0B03-41A4-88AB-8A862981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5D525-C010-4DEA-A8DF-F4115FB6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79B46D-351D-4042-A764-66DC961C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0DA2B7-58D8-4480-A617-5F89506D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21A04-F6DA-4E0C-9979-85AD2D1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94117-6338-4247-A0A8-9DE88052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78AE3A-C82E-4B94-85CB-FCE1875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C0680-9893-4601-93F6-13270A5C9D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74DFEF-7537-4548-B833-4CAF236ABB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7C0-9041-4949-90E4-DA7487BA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9662BB-FABF-4D5E-9E93-5E91C7D9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BD09A5-973E-4812-A175-89C1E82D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F5536E-A5AC-4B94-9B2E-BD7E5C77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471D4-CE3A-47AE-95B8-45782EB2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38F572-9AE0-47E7-9BBB-34180B8E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25C68F-C3F9-4BA9-A8DB-BE9C92A1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656DAA-3E24-4EA5-BF5F-F98CF8E8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F70E4E-701F-4BD5-BC99-918CF9DE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D24E59-10A4-4E8A-8150-D703CC7E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ECEE62-1DC0-45C1-B000-4AEEE81E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590-83CC-4649-8587-660EADDC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D2EDDA-3A1C-4FF6-8F11-EBAAD3F1BB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ABF86-6617-4D6C-AD4D-7CA1AF6D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DE724-3F77-436A-9A86-4FF675A6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12718-36D8-43FC-9006-748BC82C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161B8-275E-4C1A-9A3E-8BFF3B7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C94A5-679F-4986-AFD1-8DA86F1A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F94D8-FE80-4218-A6C2-B363A6EB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FCEC7-A90C-4814-BB9F-4B2D74D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EF466-23C6-42CE-A628-8BFD3C5B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D6209-FED4-469B-8E1A-506F45A2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D73F-93F3-45F4-A027-2DD0CA19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F9173-5EC7-4B74-B18A-7EA8069F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1D98D-CCD3-4DE0-8127-F5C7DCF3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07C8A-E0E5-41AC-A800-2DDDEC20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80F6C-15B0-4E2A-A5A0-884A95F1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7E7734-1C59-4CA3-B6FE-846AC06F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09225-6AEA-4EBC-B668-BC1E1D97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689B6-3044-46C2-8850-E1A140C7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B3B4D-EDEB-4ED1-B287-BF3183ED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358C7-765D-4881-9798-B48EEB8C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0490A-2A22-4375-B0DC-4EACF10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B14B-B683-4AB7-A9FD-1D24FC92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85A9A-4B30-4EBA-A2B7-982235A2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A35FA-DC48-4AA4-8202-16E708F3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B5E24-7CA7-4C34-9A1A-D1C65FD4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F2FA9-3579-4B1D-9EB1-0A0FC9E5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633EA-C77E-400C-9D66-98E82E27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34E105-A883-4BA7-808A-F9069E77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41A07B-C871-4536-841E-7F7B4FF3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718FC0-8719-4C16-A725-2980F2D2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57D777-80B6-4246-957F-AFCEA720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3AB9F6-F5B3-486C-B88B-3E498462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D596-FA96-43A2-86CA-1A32FBA4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F9F546-389D-459E-80ED-519BCE38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33E4E5-85F2-4071-ADE2-D4655EA7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7960AF-2150-46A0-BDC0-7DEF23F2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C78BB6-6659-411C-919A-8A7AB52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68FDC9-0276-4915-A049-D68038AA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FD1258-4620-4853-A647-9EDABA15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5879B8-4F05-4EFF-84A9-CF662B96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D6542-BC0B-4104-B3A6-2A1229B8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6DEB22-E215-47C8-8D66-F4E34C54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4BB38-A5E0-4D27-B6CB-EFE887DE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4F01-688A-4878-B2A8-A3CAEE2B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C98010-417E-4726-8B4E-D6D5FEA9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08300-EEDF-425D-A160-CD76461E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84DFA-8FCD-4CA5-9612-870B8B50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D88767-5833-4C58-8BEE-12B73D38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72F52-BEAD-4C28-B4ED-7B525603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A7893-2711-4449-A97F-FE9948D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77BF68-4886-4DE0-A386-46F4EB96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2A1A4-7136-47E7-A400-11D28357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4479F-A4A7-4076-82FC-ECAB1623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2D38D8-823C-4401-971D-BCF21EA3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53F-E40D-4878-82FB-D28A0E0E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07D123-B9C4-47BF-AC5B-F959DBEA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1BFF25-111B-4B64-933C-5C1AEF0A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A171DD-5F7E-4C61-80C3-F203DD1D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73B706-315D-475F-BB1F-61B9D2CA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A7F662-A9D5-4F34-880B-DCB64783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FCEC32-16CF-474E-9853-C3EE7A81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EB1F63-2E43-440B-AB82-C4B45875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C2F8F7-B9C9-4578-8A8C-CC29752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2F1F3E-7FC5-41F5-824B-00368DE5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0ACA26-690D-4D1F-AE47-03E00656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03FE-E337-47E1-8F31-1328E1D7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ABF1E7-6AAB-4EF7-90AF-2EF5662E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F93358-78EC-47E4-88D0-D4A70D39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661912-6FA6-4B61-B17C-2E143CC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261C3E-2E29-4C2F-95C2-FE744A02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27FD33-0A76-4648-B8C5-64E7677B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14D316-85F2-48ED-ABCA-E2EEF9B1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043061-F147-40C2-8DB3-2711D4C4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52F104-C1F5-4FC1-8027-95FCD909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0DDF8D-25B7-41A7-A417-4C0EAED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07CCBF6-0C4D-4043-92E6-B20268A1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FFA9-6B83-41A5-A109-FD012DA1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C35AEA-8EAD-427B-8725-773DB92C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D17D84-A03B-4FF8-84D9-53F123A6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789D870-07AF-4477-B686-C82E56B2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AD016FA-8CD5-470A-A777-9419A11F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0E0C6B-EBF7-4A1B-B40A-EF4B6576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9C82DA-A4B3-4F1C-8F7B-3DD117B9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D98D6B-18E0-4EAA-B1D6-BCCF93D1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A79CBC-2C20-4B7A-A053-326EAA2F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C1107A-3840-4151-90B9-6B8D37AB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F77E53E-6AB0-4B36-B313-01F21BBC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D8B-1849-43E3-A7C3-EAF01A09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8FCC-C358-405C-98DA-B3F5D20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D5DF98-B435-46BA-97EA-4341F0F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2A3D37-A486-42B6-B6CA-3D284CC0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627265B-2ACE-4531-8894-A5C3B132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8DCFF6-D250-483F-86A0-4AA174C0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7B50D3E-602E-4E4E-846A-DA809AA5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4A73A9-A8F0-42CE-B30C-F5825EB3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9FA8FEE-0FE5-4966-AF0E-33AABEA4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9B0EC0-CBDC-4481-9A28-B6CF6C42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B603C6-85CA-4FA9-9145-E8F61F0C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8AA7B96-CC8B-4968-B6DC-C4218C05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D833-D7FF-4841-BE27-B0493667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E88CCA-539A-4100-85C1-FA1BE2FF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11A0C0-5388-42BF-BC9B-39D53B1C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BB61A5-FADA-4245-A400-18157A3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D874C2-6E94-45FE-962B-B78D0F5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C8F4B4-4B3C-4834-B0F4-ECD489B6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267F91-6D53-42C0-A1F9-1E3CFD74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5C211F-5F91-4B18-A636-E3840C96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13232FC-00DE-4E41-B888-B32BB886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3B77F1-E765-4920-80A9-D6678FFA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D40F2B-300D-48D4-848E-BD74FE2E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8C04-4FDA-40EB-88BE-932FB99C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2F2165-A133-4F43-A5E7-E9A3D882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6C5BABF-209B-4149-9C1E-A7DB93BA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15D988-877C-42F9-9DE6-0EBB3B57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B3E1C82-8A46-4127-B079-7A3D174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10275B-57AC-4CED-9C2B-E36B1CAF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F58862F-F579-4EE2-A2C4-811361BC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DF43CD1-8599-4506-84AA-F9F37E1E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782CBE-1B5C-4DE2-842F-FAB57EE7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C9C285-0B47-4BD2-89A8-00D1E2A8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6F3246-68BC-42E7-A278-5D853FC50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D904-9574-4877-B101-C09F12C3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395E2-7791-466B-AD00-08D3CC8C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90486-28FC-4801-9497-433E553C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58890-1A9E-4379-8A5E-166E1B99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805357-09BF-4142-8340-999D9732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E246FC-75A2-43DE-9DB8-CD9C99FC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735D4-26CF-4236-8B6F-7AA762B5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FFC017-2D35-4EDF-8428-444A607D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5841F6-58CD-47BB-93BC-A8A4D957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B82D1-0B62-4A93-83EC-95BA4C19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ADD7B-1B23-4ADE-9DB4-364932D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5C8F-5F69-40E0-ACF7-1148B4EF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43889-254E-429C-B750-07941FB462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A7480C-BE1B-40C9-B1D0-E2C260EB4F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5EAC74-6423-46B8-873F-13CF331A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245754-4994-4AEF-9088-28FB86C4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6428A0-C29C-40F0-BE0D-159DBD56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A17BD2-3185-4A97-8BEC-86E488DE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A4116E-EF63-4E50-8049-211A4F78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D6EA4A7-654A-4121-9094-B5FA5EDB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BD1D28-31B1-4212-B02F-A5C02F10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71A916-07BB-484F-8AC7-37A86C4F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0FDE-3B5D-4B4C-9E0A-CCFBE086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9C576BF-10E2-44DA-8CC0-0C8535BB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D28083-2639-4318-B739-6E05D238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5C25F6C-A789-4069-B7B6-35B4A7A75A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A55EF54-B5CF-424A-A9DA-E1E9C486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C39BC6-247C-4805-A168-8504CE18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382455-DD21-406D-9C77-FC83196D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97E7A6-E3CF-4D10-B73C-3F03B4FF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D8B9A9A-0E76-419A-AEBA-C45FD656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A15CF78-B4D8-4453-86B4-ACC223C7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8410A9-F24C-4523-B83E-9A06BC2B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5637-DA9A-4F90-AB0E-52940A7E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A42168-F9CD-45BD-8332-65D4484E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1B9355-A51E-45B8-9740-1669BA2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C912CC-6AA6-49A8-A844-BD1A770B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E74E3F-FA03-4ED2-9381-F27D4FF6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6BEC368-E1DB-4FF9-8B26-93BFFBE6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A8C147-4470-436D-8C02-D238251D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F1B2445-D40A-456E-8ABD-9985AF83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86482E-44AD-47FD-B1B8-A2D01875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BE949FF-DCC9-4646-8B54-BA72142E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38A3FA-8E30-42BF-98CA-D15CDEC5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54D4-9D86-4438-A4E4-9B224478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B73B27F-9BCA-47FA-A8F3-4104B532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24CA8E-F037-4D4E-BB3D-89ECDAE5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2CB8327-72C7-4F60-86C2-001AAC8F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2A48C95-22E4-421B-AE3F-B356983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64681B1-20C7-4749-9609-4B3088BB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EF70E3B-0D87-4106-A8ED-DC7148A6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D091FBC-0A57-4C4C-881D-E6D23018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680A6B-8547-4329-BDF8-F638EC5B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90823C6-0D98-40AE-B63A-2FF6341B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7B38E24-BC0B-4EA1-88FC-7B258FA9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99D5-EC8E-4614-A4B9-6D81D8E7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2CDC642-EAE4-471A-9C79-449E83B0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75C9D3-6409-4737-B67D-89C827F5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39331F-E2DD-4D47-9640-7D09BF19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70D29A-6E3A-4320-8AE3-8240796E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E8C325-0352-4B5F-945D-5D4C8A31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1FCDDE6-2FE5-40A0-A05B-D2160C4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5F87892-80DD-4142-BAFF-5006087F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56668F8-E4C3-4CB1-873E-07CAF1EB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783425-4112-411E-85F6-94023E52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AB48A89-EEDF-413A-8DC3-E6F58ACE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9F7B-8F8E-483D-9654-C9955A6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98088CA-78AF-4D38-9296-17086E62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D303264-7FAC-43EB-891C-C252E74A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F72123-0018-4744-9813-A3A4042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84C6619-F945-43E4-8D98-40577C8F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C7DC2EE-117E-453A-8EDE-4063AE1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A62C036-31DB-497F-B6BE-99648E7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9424FB-8007-477C-BD52-AA153CB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5DDDF3D-0178-4F46-AB00-E5DE3298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A26EE87-2F04-4CFA-A001-582EC73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E8366B0-5558-47B5-8794-C040176D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414-6B25-4C0D-BFCD-44CC726B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7C5A1-75B4-4069-BFEA-EF99C4A0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526FF7D-3A08-4656-8827-22BB1D34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37FA58-D3D3-4B11-BFDF-C0D8E89F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2A5B592-0EC8-46AC-B632-4DC4B740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96DDFB0-13C8-4783-BC17-A72F7A67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B2E9CEC-52D2-412A-AF7D-29909C36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43A1637-3465-4E5A-AA56-18C0ADE7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90BD992-C53F-48F3-BC91-933933C3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16F1CD-3E7B-4EF9-8FBA-72FBEF1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8CA892F-79E1-4B92-8FB9-C4796725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A78F253-8D70-426E-97F8-A7C230B5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EA9C-B4F3-4A4D-A1DE-AB15565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B791ED9-6617-4B52-9962-FE8A7F10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D0C3F8-FFD9-41E8-AF54-7C5F5DCC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D9B9FC-4093-4F41-B7C9-AFE498A1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1F6A10C-F207-4ED7-A15B-C998B663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2F4D0DB-461E-41E3-986B-AC655190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1B724BD-C320-4F72-9B46-A22C3D89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3A0CED4-F4D0-4277-91E4-CCBFEAA7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E4C9F7C-AF98-4CC5-B29F-32C839D3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545DDE8-9B92-4050-8462-10035F88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A87D86F-7F8B-496D-B301-B0BFB553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3A32-5F3C-46A4-9542-7D1B9ACE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D455B9E-CF0C-4731-936F-FDE58F48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E7E9897-F1F7-4448-A3C2-4309BEB2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031FC41-27BE-49F4-B4C0-AA977E0D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BB92B69-40CD-438F-9506-230B12AC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8347881-FD7F-470D-A4A1-1B8BE7D6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6399194-2D94-46BB-A5ED-778862AA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C54432F-29A1-485E-8762-D13A9D7A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C839AFE-2DF7-4727-9734-5BB86C8D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D16959B-9E40-44EF-853C-29B2C3B0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039C322-846A-4FBD-BDF5-C59CF846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8DC8-2E52-4719-9982-C05E577B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F17330-1A0E-4DE9-9078-90652B83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02FFB0C-D200-459A-88E8-16B4ACB0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323599-8E7E-4773-A31C-6AE4C949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DAAD135-4525-452F-B7FD-7FC6044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43BE12-FBD9-49A6-AA21-FA6C79B5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AA0783-E25B-4A27-A190-4A202709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BF1C560-E371-42FF-887D-42CCF424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2298ED4-3FFF-49FF-811B-68B12D18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3091C85-EE76-4AFC-8597-5E9A7AD7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DE9A5CB-B55B-493C-9FC1-C1ACE090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2B0B-4C5F-4272-82A6-E0527960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CD335F1-E71E-4560-8EB0-C6D1B55F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0A1C59B-7AE0-47BB-9345-057223D1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75100E5-4ADC-48D6-8BA4-5065430A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6532CB4-ABB9-487D-A460-948C0158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BEBA4DF-3E47-495F-8502-42C7420A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F5AE5B1-DA2E-4764-91C5-B0038C9C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9B96274-5BEB-4E45-99C0-12962DA2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EE9E134-1A38-40DA-8D43-0021A136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31A4EE4-58E5-4DD8-8A4B-74777A37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CB8C539-05F8-4B7B-BCC3-247B5860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9EDF-DAA0-47F4-BF08-808CA961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485D5A9-6EC5-4E86-8431-92304A27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AD227F7-D24A-41EF-88C1-1A6D518C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BDBFE08-2840-4996-962D-8C7EBFC9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201418-92ED-4852-B7B0-0FA095E7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008846-BCD7-49AC-BC8B-897A5F5B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CE336E1-9229-44C7-B858-35607680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FA098DA-E4F1-4CD1-953E-10265849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39F815-AA9D-4459-90BD-2D26CE5E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96C1DC0-5D04-4AF6-80F3-30A9BB8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D2389DC-BEA6-4C08-AFD3-887FA50F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E564F-0749-4C22-8BDB-7DC11D290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2C73B5A-AA41-4A21-BE23-71F8B51E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B90515F-B573-4372-8238-1E93173F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36856CF-EB2F-4CDA-9311-750EA50E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037B4A7-1F75-4409-9E08-05676969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55D953F-EB7B-40A8-BDC5-39220582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8374FCB-A6E6-4D11-BEFD-7D8642BA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6560402-5A20-4D2A-9E61-7AC0BEB8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28B48A5-1060-4C97-B0C7-22E3A441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7EE788D-50E3-43B1-A006-18B18BA3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A58A66F-A941-4D63-8265-C23542F9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0FC8A-6CA9-4D19-B9CF-D219D0EF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1CA360E-DE13-42C5-93F3-D52E6D43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228C8A7-51BD-43CB-8575-C532F3A2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57C4650-FB64-411B-AE5B-886A282B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C7B24C2-2C25-4E11-97AA-6E643B84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A9F119B-118C-4CA0-9542-A320B4BD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AC8102E-A025-47AB-8352-3E0DA95E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F8F1E89-C80C-45D1-A946-5CD8FD33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59A87F4-145A-4906-A809-9ED0ADEA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9E14317-97FF-45B2-A2DF-87EA8471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0280EC8-DAFF-42AC-9C0B-385B4895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CEF9-7893-4870-ACB3-0DDAD141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18B045E-E838-4513-B43C-73F54B0E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5A30358-7F38-4F2C-A669-2CC0DC18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FBF8E42-C9FD-495D-8BD2-78652897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38FBC11-C778-40E8-B033-366E44AA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8668A1C-8446-4129-96C9-9E57929B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38D3DF3-C85C-45C0-8D1B-C46B5912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5A4DD66-80A3-4B02-B370-2821C8BF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76EDE98-268C-4785-BB1C-A954BA8B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A2474A8-CB2B-4883-92B1-4D83F849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DD6954D-BC18-49F1-9524-D702293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E9EF9-83BE-4007-9F5A-76B5A19A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F9772A7-4FEA-4F0F-B841-6866266E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8868F3F-3014-4035-8FEA-892400B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70B384A-CAD5-4CCE-8EDD-AC798D65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A693751-90A2-420E-A3E3-A03123D6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2A0F197-6C26-49DD-A875-235EC2BC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C2A8F84-7657-489C-B35B-3A348D57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62EBC85-E780-4BD6-A24C-E7B733F0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127A3C1-6CC3-4BA5-82BD-42A7EAB9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73A80B5-195C-4E0E-B392-738F6251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CD805E0-AF64-44E8-B74D-02CD6BFA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9D19-F143-41ED-ADEB-8EED5E5E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C625C-9F4A-4824-84B5-803776D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BE1CE5C-7C93-442E-BE8F-C1955D58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FCE2063-0120-430F-94D7-72220B75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0AD9AF2-2041-475F-9B92-8194654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6886949-D1F7-40C2-8B15-190FBA6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C37E763-ADF7-479F-959D-866D49E8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C56E69A-6388-4F40-8099-90CFF07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A21BC31-A99B-451C-AD7D-196AF360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71BD333-0F9A-4993-9358-40E574CD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513165F-5040-4844-A8B0-0991E314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2D2AD44-3B6D-45E8-9E45-6B0C8739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1677-246F-40E4-A802-9E4D914C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52CFB0F-47A4-43F4-B22C-B34D110A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4B08532-076F-4246-9B08-D793D170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F3CA6E6-655C-4FF3-8A78-38A44C55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0B0DEF5-709D-49A9-B118-9CBA84E3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B8CA8C6-31EE-4287-9308-03984C93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1BD1D73-BC4C-4679-8139-64EB1D0F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D2DD377-1DAA-4F99-9F94-A31EF5A5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8C690E0-7D13-4224-818F-96C59197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05E3814-40B7-4E10-85D8-22AF485A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06963C3-CFEC-48F2-A80B-BE707923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B4D28-B4AC-4965-9C97-C511A50C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E575FD1-85C5-4A84-9E51-61E18CD3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3934BC2-D631-428C-A294-E4E2D261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95B957E-9D15-4399-9172-463EFC98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D01B1BE-F798-45BA-87E9-B586F274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B07E04-C175-46FD-BC59-3580071F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1D975F7-B12F-4398-81F2-EB344501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97729F3-67ED-4274-B18D-16095B4E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AD9A0DB-E6E7-40CF-B00D-19D98B88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023D524-8F41-47E3-89A6-5D878660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39A5A36-A5D3-4B99-9016-E67980DA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E34B-A4F5-48AE-9037-99A0EB2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EA1E662-4F35-4710-BAA6-FE4F49CA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6E0071A-F668-479A-B528-28247A32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9CEDCFC-58FE-47F4-9523-414AAA8C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0A990C7-307D-4CCC-BFB1-B25AEC79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D77D358-7FB9-4111-97B1-96ED303D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02F23BE-FD69-4BA9-8B87-4B7AD0E6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C894DFA-3DCB-4C91-8039-88003BAD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5A8F3AA-C0FF-4001-9806-8F5B4D61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2C3A0F1-8544-4C3B-B95C-878CB208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7E4515C-C5B5-4EAF-939B-177ECCDF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5393-E983-4E24-9D61-F922C0B9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5C96F1D-AEB4-4636-94F3-8C27A5F9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B8CF5DF-2F2B-4E10-A55E-8EF9656A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9BC8755-6D0B-4D38-9791-F18E6DD8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CA75519-D873-4B7F-9F2D-97418964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AD631C7-4CD7-4DD4-B8CF-0CF944DE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4EC2ED7-6445-450B-85B1-DAF2F522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3AF9532-9890-4B5E-8574-E374CDCB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7A2E387-2FD6-4D4D-B3DF-98679BED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566499C-5757-431B-A53E-FA0FB805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D30B5F9-EE77-4A2F-A6B9-220F26B8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3C62-C977-4D93-AED8-3704625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E75826B-B9F6-436F-A615-250E885D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A9EE651-E975-4F79-B6D6-BF019AE0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25FD011-D103-4760-813E-7E70251D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59B0481-4B31-44B8-8399-A5B10C4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EB2DCE1-3E37-4EEE-BE2E-84BAEC8F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F4AAA0C-D25B-4181-9728-984536A3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495B396-0E81-40A2-BA8C-DEDA9214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68EC936-4672-4016-9BA9-8F69071C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CC69F38-2DD1-433F-B43C-9273A029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44ABA49-2D1A-4FF8-A470-F203CA99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D9481-61FB-4320-9BCD-D2CCB0D9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E57F647-9BBB-4D50-A6D1-2658BEDF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9EE9ADF-8711-47E9-891D-88A4FA6D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5F022F4-82D0-4EB7-AD83-25379BBB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5658233-395C-4F17-B1D5-5EEC13F6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0CD1642-B774-4841-9A54-DEF198AF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78F27D5-7A85-4B22-8A01-538A21E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08C6F93-E99F-48A0-BFE3-C58976E9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7A5E064-60FA-41A8-8D19-E7F9EE6E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3CFDE74-AB0E-49F3-AD49-3C9182CB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AFC05B7-F58E-4E67-BF31-E9231F4F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2166-E678-4B02-879A-1DD0CEAD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81B03CA-F007-4CC6-944A-D9F371A2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E2CF5A4-8E57-4B8D-BF06-E7F710BF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3F73158-45D1-4B73-B27F-D69A5802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500BC24-2DB5-4E74-BCDF-3D88BE1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E2C0AB8-90D7-48BB-B1F5-961D3DEB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8C6FE5C-7FDD-4B8F-AEFE-CD66945D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820C436-8D9B-4742-B537-0E148E46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D4C48AE-B77C-4E63-A3DC-5C33ACD6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1D6F310-0D7F-470A-8BE9-70813DC9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F24E3E0-F603-4B30-B0FD-89B4DC53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BACF4-CE8B-465E-9941-BF722020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D442873-85B0-4218-A3DF-85AD3E7A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EA1-638C-4AB5-B759-13787A53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D8D-227B-4D84-9FEA-A114C27B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A6D-EA07-44D8-B79C-31BFE69D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DBAB-4862-4B18-AF95-9B1B6BA0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ABF47-F04D-497F-AD2B-F6709AC9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B3C98-218C-4F15-B9E0-0A1A8875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64543-CC02-44CF-A6E8-AC4F3257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95B69-D5A8-4FED-B1CC-120F2D7A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34A1C-0D3A-4ACB-B601-923E3490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29CF5-D8D7-4535-AD38-F8E28CA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F73-6A43-4545-8AAA-4B6F513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E0A9F-2C61-4A66-82B7-1DAC3499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0BFF2-49F3-4FCC-8339-2F276499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39C81-D753-482D-9F25-8B9BE880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CA4A5-1174-418A-A12C-B13FEF9E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EDE8C-FBC9-4974-9432-2A090508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4C052-7B09-4593-A074-351F5E11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56E92-02FB-4993-8305-BBC6112C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F98F0-A6BC-46C9-980E-D416E83A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F9344-1703-4E4D-8BDB-10A90A3B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1961B-F07E-4882-BD5D-513ED201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A75-0DB2-4FE3-BC5B-16571617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A482F-6D5D-42C4-870C-D2C46CD3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C8889-A515-4721-8605-7830E091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807A8-65A7-4B2E-9B96-B3AE8F6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EB357-C5D4-4AE8-B358-2F50C28F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1718C-1721-4129-82BE-3BF1CEB9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D98FE-31C2-49AC-B6D0-6391C015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27296-3789-4DDE-952C-15687C4C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DFC93-29B9-4986-9274-5A3542E881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5EFC6-D9DE-41DB-AB87-23550A93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EE7CC-E079-4A7E-9310-12B81FD9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880" y="2666520"/>
            <a:ext cx="51818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33920" y="4419720"/>
            <a:ext cx="54100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Federation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1" marL="103680" indent="-3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2" marL="159840" indent="-3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3" marL="223920" indent="-31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4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5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6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ederation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ederationBol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ederation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4825-C0E2-4622-8D3C-0A2926393DF6}" type="slidenum">
              <a:rPr b="0" lang="en-US" sz="1400" spc="-1" strike="noStrike">
                <a:solidFill>
                  <a:srgbClr val="000000"/>
                </a:solidFill>
                <a:latin typeface="Federation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uppe 12"/>
          <p:cNvGrpSpPr/>
          <p:nvPr/>
        </p:nvGrpSpPr>
        <p:grpSpPr>
          <a:xfrm>
            <a:off x="0" y="0"/>
            <a:ext cx="9144000" cy="1969920"/>
            <a:chOff x="0" y="0"/>
            <a:chExt cx="9144000" cy="1969920"/>
          </a:xfrm>
        </p:grpSpPr>
        <p:sp>
          <p:nvSpPr>
            <p:cNvPr id="358" name="Rektangel 2"/>
            <p:cNvSpPr/>
            <p:nvPr/>
          </p:nvSpPr>
          <p:spPr>
            <a:xfrm>
              <a:off x="0" y="0"/>
              <a:ext cx="9144000" cy="1969920"/>
            </a:xfrm>
            <a:prstGeom prst="rect">
              <a:avLst/>
            </a:prstGeom>
            <a:gradFill rotWithShape="0">
              <a:gsLst>
                <a:gs pos="0">
                  <a:srgbClr val="7dc8d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ktangel 3"/>
            <p:cNvSpPr/>
            <p:nvPr/>
          </p:nvSpPr>
          <p:spPr>
            <a:xfrm>
              <a:off x="0" y="1703520"/>
              <a:ext cx="9144000" cy="26640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1f88c8"/>
                </a:gs>
              </a:gsLst>
              <a:lin ang="16200000"/>
            </a:gradFill>
            <a:ln w="9360">
              <a:solidFill>
                <a:srgbClr val="22708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4D34-AFE4-45D2-AD60-1E12D45C0614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012D-B0C8-4F06-91CA-902AF55A695F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E8E4-769B-40D0-A0B5-F4012486ACDF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88A7-4A4D-4E75-8D78-F02336A5065E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1C72-711E-4502-8417-4A2B88E150CE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1903-127A-4EAC-B4E3-C7E6FA557CF9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1EE1-03DA-4641-9042-A343D25CCF9F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A63B-415F-4CA4-AF39-996F9BCE8C0C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046-058E-4733-8CE6-9BE4231BCE52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AB60-F0B9-4856-9192-F074AA43947C}" type="slidenum">
              <a:rPr b="0" lang="en-MY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Federation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1244-70AF-4774-A5C3-12DEEB6B0B5F}" type="slidenum">
              <a:rPr b="0" lang="en-MY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ktangel 2"/>
          <p:cNvSpPr/>
          <p:nvPr/>
        </p:nvSpPr>
        <p:spPr>
          <a:xfrm>
            <a:off x="0" y="795240"/>
            <a:ext cx="9144000" cy="1230480"/>
          </a:xfrm>
          <a:prstGeom prst="rect">
            <a:avLst/>
          </a:prstGeom>
          <a:gradFill rotWithShape="0">
            <a:gsLst>
              <a:gs pos="0">
                <a:srgbClr val="7dc8d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Billede 3" descr="dreamstime_Handsoverlapping.jpg"/>
          <p:cNvPicPr/>
          <p:nvPr/>
        </p:nvPicPr>
        <p:blipFill>
          <a:blip r:embed="rId2"/>
          <a:stretch/>
        </p:blipFill>
        <p:spPr>
          <a:xfrm>
            <a:off x="7253280" y="785880"/>
            <a:ext cx="1890720" cy="122724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foot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uppe 12"/>
          <p:cNvGrpSpPr/>
          <p:nvPr/>
        </p:nvGrpSpPr>
        <p:grpSpPr>
          <a:xfrm>
            <a:off x="0" y="0"/>
            <a:ext cx="9144000" cy="1969920"/>
            <a:chOff x="0" y="0"/>
            <a:chExt cx="9144000" cy="1969920"/>
          </a:xfrm>
        </p:grpSpPr>
        <p:sp>
          <p:nvSpPr>
            <p:cNvPr id="790" name="Rektangel 2"/>
            <p:cNvSpPr/>
            <p:nvPr/>
          </p:nvSpPr>
          <p:spPr>
            <a:xfrm>
              <a:off x="0" y="0"/>
              <a:ext cx="9144000" cy="1969920"/>
            </a:xfrm>
            <a:prstGeom prst="rect">
              <a:avLst/>
            </a:prstGeom>
            <a:gradFill rotWithShape="0">
              <a:gsLst>
                <a:gs pos="0">
                  <a:srgbClr val="7dc8d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ktangel 3"/>
            <p:cNvSpPr/>
            <p:nvPr/>
          </p:nvSpPr>
          <p:spPr>
            <a:xfrm>
              <a:off x="0" y="1703520"/>
              <a:ext cx="9144000" cy="26640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1f88c8"/>
                </a:gs>
              </a:gsLst>
              <a:lin ang="16200000"/>
            </a:gradFill>
            <a:ln w="9360">
              <a:solidFill>
                <a:srgbClr val="22708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foot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4FBE-AB87-4B56-B6BE-89216F5FA271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2F73-2BE7-4A61-8156-8E53C4596709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8B74-B679-4F4D-9CEC-D19EE03A18DC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D9B0-18FF-40B6-A694-5BE0B44FFDBF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8DFC-65D6-4B81-9E37-846CC3078302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DCC3-869B-420D-8801-0F69CFA35CEC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D8BD-DF72-42AD-AB25-1858A505C505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724C-9FE4-4117-AF30-95CD9DFAD2B7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8F80-2B34-4B77-8F38-F13ABCF44CDB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A62A-4292-4BFE-9213-5CA7063CA98B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356-3018-4038-9CA9-768F75068FE1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C2C6-5B66-4486-8AB4-A0D85BEBF21B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B5CC-D54E-4E6B-837A-D1935F878710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1A7E-FFBA-4985-B794-32B2BDC2537D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3DF8-BF6C-4EE6-BA21-CE17EC71C5B3}" type="datetime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8605-AF24-4BA8-915D-F02C3E9922E6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6477120" cy="88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B1BD-6896-40A2-807B-0E95BFA8BC25}" type="slidenum">
              <a:rPr b="0" lang="en-MY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1" descr="WhitebackPPTCover4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DD9A-2AAA-4E3A-AB17-12E5E9F18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FF46-671F-4FDF-904C-34880D6EF2DD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6FEB-3BB0-4DCC-BEDF-508A1EA96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2329-F17A-4967-8304-0FE11A8F7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1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FA7E-8C7B-415C-AD31-A27C12EC0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55A8-04F9-4FD3-A249-5A43FAA13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6009-8F68-48A8-99DA-4E042A74E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E15C-DD1B-41EC-9DAF-7803B4BC6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ED56-BA13-4F5A-9BF9-377DBF3AF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CED4-BF1D-4C6D-B739-692B2F236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37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E9A5-E709-4E32-9E1B-589635863253}" type="slidenum">
              <a:rPr b="0" lang="en-MY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E36D-F24C-4109-9E68-DFB161097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B2E9-9D94-4D44-A772-B930412CE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Federation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CC08-7E48-4C2F-B847-1BAF1ECC2F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Gruppe 16" descr=""/>
          <p:cNvPicPr/>
          <p:nvPr/>
        </p:nvPicPr>
        <p:blipFill>
          <a:blip r:embed="rId2"/>
          <a:stretch/>
        </p:blipFill>
        <p:spPr>
          <a:xfrm>
            <a:off x="-60480" y="762120"/>
            <a:ext cx="9264960" cy="13586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0A23-AC00-42ED-AB82-5EEF8C78F706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ion1rttt.wikispaces.com/" TargetMode="External"/><Relationship Id="rId2" Type="http://schemas.openxmlformats.org/officeDocument/2006/relationships/hyperlink" Target="https://mxweb3.media-x.com/home/ncval/demo/" TargetMode="External"/><Relationship Id="rId3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cap="rnd" w="34920">
            <a:solidFill>
              <a:srgbClr val="0000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orth Carolina Teacher Evaluation  Online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tie Count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ember 1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we begin, please go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880" y="1295280"/>
            <a:ext cx="83822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  <a:hlinkClick r:id="rId1"/>
              </a:rPr>
              <a:t>http://region1rttt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esentation and the ticket-out-the-door can be found under “Even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alibri"/>
                <a:hlinkClick r:id="rId2"/>
              </a:rPr>
              <a:t>https://mxweb3.media-x.com/home/ncval/demo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name: Principaldemo (any number 1-4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word: 1234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Our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come, introductions, agenda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your Experienc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from McR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 and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-Rater Rel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 and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cket out the D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8" name="Picture 4" descr="C:\Users\eedwards\AppData\Local\Microsoft\Windows\Temporary Internet Files\Content.IE5\PR30TM4L\MP900401668[1].jpg"/>
          <p:cNvPicPr/>
          <p:nvPr/>
        </p:nvPicPr>
        <p:blipFill>
          <a:blip r:embed="rId1"/>
          <a:stretch/>
        </p:blipFill>
        <p:spPr>
          <a:xfrm>
            <a:off x="5181480" y="2819520"/>
            <a:ext cx="344484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06:07Z</dcterms:created>
  <dc:creator>jgardner</dc:creator>
  <dc:description/>
  <dc:language>en-US</dc:language>
  <cp:lastModifiedBy>eedwards</cp:lastModifiedBy>
  <dcterms:modified xsi:type="dcterms:W3CDTF">2011-10-31T17:22:45Z</dcterms:modified>
  <cp:revision>87</cp:revision>
  <dc:subject/>
  <dc:title>RESA Implementation Sessions Day 2 Process</dc:title>
</cp:coreProperties>
</file>